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5B8-23C5-47C1-87FD-8671116D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DDA-7987-4BC6-888F-C8EC6BF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9EB-9ABD-4E9E-980C-5A19BD3B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53C-BA60-4076-9125-3A8ACA3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020D-B4A6-4209-8AC0-7787A9C0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468-B95F-47B5-B086-CC434A7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9B4-113B-4D57-93CD-4D9274D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76B-86D5-40EB-A794-1510BE0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F6C-5B34-4906-B5AF-38E72C49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824-6AF2-4056-9714-6F7DCA7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DF7D-EAF3-4FAC-ACCC-DF20164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5B4-8FBC-406B-BFFD-825C8B60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0EBE-187B-4C83-ABB4-11DFC7C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B19-9762-4706-8B22-C6B2BB0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FF7-C073-4E58-BAF3-6428419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ADE0-F198-4F16-AA39-746EFE10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068F-EACC-4103-BF9C-D06C6B6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8F1-6E5C-4D60-BB31-21DCE03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0C9-483C-475F-AC6B-C485332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0A7-2337-4288-8E48-6C9A5A25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29-46F4-4883-BF03-50E6244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FD-7161-4D51-A97C-0D131342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6CC-2DA8-42BA-88DA-94D4562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F6A-AA0F-4512-B18A-6ABDF07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AD3-0B88-46C3-B7B3-D0D2046C0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362320" y="2209680"/>
            <a:ext cx="5829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ho is Hibernating?</a:t>
            </a:r>
            <a:endParaRPr b="1" lang="en-US" sz="4800" spc="1" strike="noStrike">
              <a:ln cap="sq"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191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 by Sally Mus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mallard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286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12193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t’s create our own hibernation hom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533520"/>
            <a:ext cx="7925040" cy="36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SLEEP SWEET!</a:t>
            </a:r>
            <a:endParaRPr b="0" lang="en-US" sz="4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18800" y="385920"/>
            <a:ext cx="51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hibernation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676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bernation is a time when animals go into a deep sleep for wint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snowflake3" descr=""/>
          <p:cNvPicPr/>
          <p:nvPr/>
        </p:nvPicPr>
        <p:blipFill>
          <a:blip r:embed="rId1"/>
          <a:stretch/>
        </p:blipFill>
        <p:spPr>
          <a:xfrm>
            <a:off x="6689880" y="457200"/>
            <a:ext cx="245412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snowflake3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142848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snowflake3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snowflake3" descr=""/>
          <p:cNvPicPr/>
          <p:nvPr/>
        </p:nvPicPr>
        <p:blipFill>
          <a:blip r:embed="rId4"/>
          <a:stretch/>
        </p:blipFill>
        <p:spPr>
          <a:xfrm>
            <a:off x="2895480" y="4267080"/>
            <a:ext cx="2210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0920" y="99072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et’s think of animals that                                                                                            hibernate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68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y do these animals hibern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190512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it too cold outside?  Do they have enough fur to keep them warm?  Does nature provide enough food for them to eat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do these animals sleep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819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nder your bed?      In your back pocke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n your tree house?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homekid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828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85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bably NO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3623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st animals find cozy warm places that are quiet and away from anything that might wake them.  Remember they are sound aslee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4572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long do these animals hibern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43828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ir body’s alarm clock will wake them when the temperatures start to warm up, what season will that b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52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RING      FALL      SUMMER     W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larmclock" descr=""/>
          <p:cNvPicPr/>
          <p:nvPr/>
        </p:nvPicPr>
        <p:blipFill>
          <a:blip r:embed="rId1"/>
          <a:stretch/>
        </p:blipFill>
        <p:spPr>
          <a:xfrm>
            <a:off x="7062840" y="1371600"/>
            <a:ext cx="2081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6858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 animals get hungry while they are sleep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195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o. They have saved and stored food, as fat, in their bodies.  They will eat again in the sp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76720" y="83808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ere would you hibernat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blue-river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new-york-winter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beach02" descr=""/>
          <p:cNvPicPr/>
          <p:nvPr/>
        </p:nvPicPr>
        <p:blipFill>
          <a:blip r:embed="rId3"/>
          <a:stretch/>
        </p:blipFill>
        <p:spPr>
          <a:xfrm>
            <a:off x="-555480" y="2895480"/>
            <a:ext cx="2876400" cy="4332240"/>
          </a:xfrm>
          <a:prstGeom prst="rect">
            <a:avLst/>
          </a:prstGeom>
          <a:ln w="0">
            <a:noFill/>
          </a:ln>
        </p:spPr>
      </p:pic>
      <p:pic>
        <p:nvPicPr>
          <p:cNvPr id="119" name="castle2" descr=""/>
          <p:cNvPicPr/>
          <p:nvPr/>
        </p:nvPicPr>
        <p:blipFill>
          <a:blip r:embed="rId4"/>
          <a:stretch/>
        </p:blipFill>
        <p:spPr>
          <a:xfrm>
            <a:off x="6550200" y="685800"/>
            <a:ext cx="2593800" cy="3902040"/>
          </a:xfrm>
          <a:prstGeom prst="rect">
            <a:avLst/>
          </a:prstGeom>
          <a:ln w="0">
            <a:noFill/>
          </a:ln>
        </p:spPr>
      </p:pic>
      <p:pic>
        <p:nvPicPr>
          <p:cNvPr id="120" name="childatdesk" descr=""/>
          <p:cNvPicPr/>
          <p:nvPr/>
        </p:nvPicPr>
        <p:blipFill>
          <a:blip r:embed="rId5"/>
          <a:stretch/>
        </p:blipFill>
        <p:spPr>
          <a:xfrm>
            <a:off x="0" y="304920"/>
            <a:ext cx="1752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14:46:00Z</dcterms:created>
  <dc:creator>Jefferson County Schools</dc:creator>
  <dc:description/>
  <dc:language>en-US</dc:language>
  <cp:lastModifiedBy>Jefferson County Schools</cp:lastModifiedBy>
  <dcterms:modified xsi:type="dcterms:W3CDTF">1999-11-23T19:46:49Z</dcterms:modified>
  <cp:revision>5</cp:revision>
  <dc:subject/>
  <dc:title>PowerPoint Presentation</dc:title>
</cp:coreProperties>
</file>